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425-2168-4D8C-AEDE-B25A7486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210-6869-4E89-89AD-122B9B7D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A18-490C-4EC2-8AF2-942FF228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BA1-0DCC-456C-8CDB-18DA0BCD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5E80-781B-4866-908A-8C823F23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77F0-9094-4A14-A9A4-4F391EDE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3237-DA92-47A7-BA55-14DAFC3F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E4F9-81F2-45F6-8A22-7E07A052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1EEC-657A-4B26-A378-A9E43EA2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E97B-B9F0-4708-A177-7FE28C03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FB84-5F84-4E5E-8FC5-DC176935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975-0509-4C1A-AC21-0C8810AF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B66B-1216-4DEC-AF10-E2E5E0E3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7447-7235-4C55-9EA7-07B8D4C0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4B2F-F561-4081-A3A6-840FC264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EEAE-12B7-4FED-887E-393CD653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FE69-EACB-402D-A1C7-6A3F9A8F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8D5-B7DC-4454-84A0-C7C73219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565-833D-41DD-8C75-F7702794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956-F45B-4A2C-9E00-3CEF0A71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79E-9E15-4804-BDF5-05868D37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22C-84AF-49DD-BBEF-B0433BF2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397-CE91-488E-880D-9BE529B3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A5C-D0E0-4702-8E94-F39167E1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BFB7-DB6B-4BB6-B70D-5C3AC16DB3DF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F223-ED76-4325-B662-B3441AC8CADA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Arial"/>
              </a:rPr>
              <a:t>比和比例习题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除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的商是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，则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A∶B=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（ ）∶（ ）。</a:t>
            </a:r>
            <a:br>
              <a:rPr sz="6600"/>
            </a:br>
            <a:br>
              <a:rPr sz="6600"/>
            </a:b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甲数的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5/8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等于乙数的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5/12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，甲数∶乙数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=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（　　）∶（　　）。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把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4∶15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的前项加上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2.5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，为了要使所得的比值不变，比的后项应加上（ ）。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两个正方体的棱长比为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1∶3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，这两个正方体的表面积比是（ ）∶（ ），体积比是（ ）∶（ ）。</a:t>
            </a:r>
            <a:br>
              <a:rPr sz="5400"/>
            </a:b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6/5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吨：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350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千克，化简后的比是（ ），比值是（ ）。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把甲班人数的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1/8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调入乙班后两班人数相等，原来甲、乙两班人数比是（ ）。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甲走的路程是乙的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4/5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，乙用的时间是甲的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4/5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，甲、乙速度比是（ ）。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盐完全溶解在水中变成盐水，已知某种盐水中盐和水的重量比是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500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克盐要加水多少千克？</a:t>
            </a:r>
            <a:br>
              <a:rPr sz="5400"/>
            </a:b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29Z</dcterms:created>
  <dc:creator>lenovo</dc:creator>
  <dc:description/>
  <dc:language>en-US</dc:language>
  <cp:lastModifiedBy>微软用户</cp:lastModifiedBy>
  <dcterms:modified xsi:type="dcterms:W3CDTF">2015-03-10T13:41:23Z</dcterms:modified>
  <cp:revision>5</cp:revision>
  <dc:subject/>
  <dc:title>复习比和比例</dc:title>
</cp:coreProperties>
</file>